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wmf" ContentType="image/x-wmf"/>
  <Override PartName="/ppt/media/image31.png" ContentType="image/png"/>
  <Override PartName="/ppt/media/image30.png" ContentType="image/png"/>
  <Override PartName="/ppt/media/image39.png" ContentType="image/png"/>
  <Override PartName="/ppt/media/image64.jpeg" ContentType="image/jpeg"/>
  <Override PartName="/ppt/media/image49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7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76.png" ContentType="image/png"/>
  <Override PartName="/ppt/media/image7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4.png" ContentType="image/png"/>
  <Override PartName="/ppt/media/image61.png" ContentType="image/png"/>
  <Override PartName="/ppt/media/image68.jpeg" ContentType="image/jpeg"/>
  <Override PartName="/ppt/media/image6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9.png" ContentType="image/png"/>
  <Override PartName="/ppt/media/image79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827E-5973-4250-B5D9-5C13A93D8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4EB-804A-4211-937D-A16DD9ED1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C35-8860-4860-8F34-DCA6B66E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EB4-F65E-440C-8D88-B494AE5E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6B7-17D6-4038-B5DF-8E11CF71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979-3ADB-46F5-B2FF-CBCD1220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856-4249-4ADD-BABE-107EA8B7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175-F50E-46BE-91C6-B998BC47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33A-31F2-4791-AE17-8EB08486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D66-45AE-4ED5-B322-9D193089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464-8B01-48D2-B3D3-0D4F3AEE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AED-BF38-4EEB-9087-7C7DCC39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968-3BF6-493E-B253-8163AC09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C09-FA9A-412D-8863-01AC2D7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CB8D-CA83-4DD1-B05F-47DCFCD79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aduga40.caduk.r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hyperlink" Target="https://drive.google.com/file/d/1ovLqQRaOqwMQJaVwQfXczSDhK771uKAx/view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image" Target="../media/image68.jpe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9360">
            <a:solidFill>
              <a:srgbClr val="00cc6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308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дагогических работников в целях установления высшей квалификационной категории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актических достижений профессиональной деятельности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чного вклада в развитие образования)</a:t>
            </a:r>
            <a:br>
              <a:rPr sz="18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03520" y="1132560"/>
            <a:ext cx="5137560" cy="3769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 40 «Радуга»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р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алищева Светлана Владимиров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</a:t>
            </a:r>
            <a:r>
              <a:rPr b="0" lang="ru-RU" sz="17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тарший</a:t>
            </a:r>
            <a:r>
              <a:rPr b="0" lang="ru-RU" sz="19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ая категория: </a:t>
            </a:r>
            <a:r>
              <a:rPr b="0" lang="ru-RU" sz="1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сша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: 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шее профессионально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педагогической работы: </a:t>
            </a:r>
            <a:r>
              <a:rPr b="0" lang="ru-RU" sz="1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5 ле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 МБДОУ «Детский сад № 40» г. Саров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raduga40.caduk.ru/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067280" y="6372360"/>
            <a:ext cx="1057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395280" y="5589720"/>
            <a:ext cx="8232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кред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прожитый день будет для ребёнка маленьким открытием!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2" descr=""/>
          <p:cNvPicPr/>
          <p:nvPr/>
        </p:nvPicPr>
        <p:blipFill>
          <a:blip r:embed="rId2"/>
          <a:stretch/>
        </p:blipFill>
        <p:spPr>
          <a:xfrm>
            <a:off x="19080" y="360360"/>
            <a:ext cx="4602240" cy="620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142920" y="1357200"/>
            <a:ext cx="4392720" cy="642960"/>
          </a:xfrm>
          <a:prstGeom prst="rect">
            <a:avLst/>
          </a:prstGeom>
          <a:noFill/>
          <a:ln w="7632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-8748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нормативной базы, литературы и опыта работы по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142920" y="2571840"/>
            <a:ext cx="4392720" cy="714240"/>
          </a:xfrm>
          <a:prstGeom prst="rect">
            <a:avLst/>
          </a:prstGeom>
          <a:noFill/>
          <a:ln w="7632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8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диагностика индивидуального развития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42920" y="3857760"/>
            <a:ext cx="4392720" cy="2214360"/>
          </a:xfrm>
          <a:prstGeom prst="rect">
            <a:avLst/>
          </a:prstGeom>
          <a:noFill/>
          <a:ln w="7632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уровня профессиональной компетентности педагогов (Профстандарт, А. А. Чеменева, Е. В. Вербовская, В. Р. Поп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  качеств и компетенций (Р.Р. Калинина,  Рокич М., Марлоу Д., Шепель В.М.,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643280" y="500040"/>
            <a:ext cx="4321440" cy="432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643280" y="1357200"/>
            <a:ext cx="4321440" cy="16430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с педаг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П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, методы и приемы работы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с семьями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643280" y="3500280"/>
            <a:ext cx="4321440" cy="2500560"/>
          </a:xfrm>
          <a:prstGeom prst="rect">
            <a:avLst/>
          </a:prstGeom>
          <a:noFill/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ФЕССИОНАЛЬНОЙ КОМПЕТЕНТНОСТИ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ребуют усиленного вним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-  31% (11че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ботают стаби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38% (14 че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ботают творче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 31% (11 чел.)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Объект 1"/>
          <p:cNvGraphicFramePr/>
          <p:nvPr/>
        </p:nvGraphicFramePr>
        <p:xfrm>
          <a:off x="6215040" y="4572000"/>
          <a:ext cx="269568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5040" y="4572000"/>
                    <a:ext cx="26956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1" name="Заголовок 1"/>
          <p:cNvGrpSpPr/>
          <p:nvPr/>
        </p:nvGrpSpPr>
        <p:grpSpPr>
          <a:xfrm>
            <a:off x="360360" y="96840"/>
            <a:ext cx="8356680" cy="1122480"/>
            <a:chOff x="360360" y="96840"/>
            <a:chExt cx="8356680" cy="1122480"/>
          </a:xfrm>
        </p:grpSpPr>
        <p:pic>
          <p:nvPicPr>
            <p:cNvPr id="20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60360" y="96840"/>
              <a:ext cx="8356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28760" y="142920"/>
              <a:ext cx="82296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II. ПРОЕКТИРОВОЧНЫЙ ЭТА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создание модели по основные направления деятельности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Заголовок 1"/>
          <p:cNvGrpSpPr/>
          <p:nvPr/>
        </p:nvGrpSpPr>
        <p:grpSpPr>
          <a:xfrm>
            <a:off x="146160" y="1384200"/>
            <a:ext cx="3017880" cy="1554120"/>
            <a:chOff x="146160" y="1384200"/>
            <a:chExt cx="3017880" cy="1554120"/>
          </a:xfrm>
        </p:grpSpPr>
        <p:pic>
          <p:nvPicPr>
            <p:cNvPr id="205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46160" y="1384200"/>
              <a:ext cx="30178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14200" y="1428840"/>
              <a:ext cx="28908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вышать качество образовательной деятельности с помощью  внедрения  игровых технолог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Заголовок 1"/>
          <p:cNvGrpSpPr/>
          <p:nvPr/>
        </p:nvGrpSpPr>
        <p:grpSpPr>
          <a:xfrm>
            <a:off x="219240" y="3243240"/>
            <a:ext cx="3017520" cy="1120680"/>
            <a:chOff x="219240" y="3243240"/>
            <a:chExt cx="3017520" cy="1120680"/>
          </a:xfrm>
        </p:grpSpPr>
        <p:pic>
          <p:nvPicPr>
            <p:cNvPr id="208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219240" y="3243240"/>
              <a:ext cx="3017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85840" y="3286080"/>
              <a:ext cx="28908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овершенствование среды учреждения при активном участии де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Заголовок 1"/>
          <p:cNvGrpSpPr/>
          <p:nvPr/>
        </p:nvGrpSpPr>
        <p:grpSpPr>
          <a:xfrm>
            <a:off x="219240" y="5029200"/>
            <a:ext cx="3017520" cy="1047600"/>
            <a:chOff x="219240" y="5029200"/>
            <a:chExt cx="3017520" cy="1047600"/>
          </a:xfrm>
        </p:grpSpPr>
        <p:pic>
          <p:nvPicPr>
            <p:cNvPr id="211" name="Заголовок 1" descr=""/>
            <p:cNvPicPr/>
            <p:nvPr/>
          </p:nvPicPr>
          <p:blipFill>
            <a:blip r:embed="rId5"/>
            <a:stretch/>
          </p:blipFill>
          <p:spPr>
            <a:xfrm>
              <a:off x="219240" y="5029200"/>
              <a:ext cx="301752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85840" y="5072040"/>
              <a:ext cx="28908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заимодействие с семьями воспитанн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Заголовок 1"/>
          <p:cNvGrpSpPr/>
          <p:nvPr/>
        </p:nvGrpSpPr>
        <p:grpSpPr>
          <a:xfrm>
            <a:off x="3865680" y="4956120"/>
            <a:ext cx="4840200" cy="1481040"/>
            <a:chOff x="3865680" y="4956120"/>
            <a:chExt cx="4840200" cy="1481040"/>
          </a:xfrm>
        </p:grpSpPr>
        <p:pic>
          <p:nvPicPr>
            <p:cNvPr id="214" name="Заголовок 1" descr=""/>
            <p:cNvPicPr/>
            <p:nvPr/>
          </p:nvPicPr>
          <p:blipFill>
            <a:blip r:embed="rId6"/>
            <a:stretch/>
          </p:blipFill>
          <p:spPr>
            <a:xfrm>
              <a:off x="3865680" y="4956120"/>
              <a:ext cx="48402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929040" y="5000760"/>
              <a:ext cx="47149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освещение и пропаган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ключение родителей в образовательный проце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Заголовок 1"/>
          <p:cNvGrpSpPr/>
          <p:nvPr/>
        </p:nvGrpSpPr>
        <p:grpSpPr>
          <a:xfrm>
            <a:off x="3865680" y="2955960"/>
            <a:ext cx="4840200" cy="1622520"/>
            <a:chOff x="3865680" y="2955960"/>
            <a:chExt cx="4840200" cy="1622520"/>
          </a:xfrm>
        </p:grpSpPr>
        <p:pic>
          <p:nvPicPr>
            <p:cNvPr id="217" name="Заголовок 1" descr=""/>
            <p:cNvPicPr/>
            <p:nvPr/>
          </p:nvPicPr>
          <p:blipFill>
            <a:blip r:embed="rId7"/>
            <a:stretch/>
          </p:blipFill>
          <p:spPr>
            <a:xfrm>
              <a:off x="3865680" y="2955960"/>
              <a:ext cx="484020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29040" y="3000240"/>
              <a:ext cx="471492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Элементы интерье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лакаты, газе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Игры  и пособ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Заголовок 1"/>
          <p:cNvGrpSpPr/>
          <p:nvPr/>
        </p:nvGrpSpPr>
        <p:grpSpPr>
          <a:xfrm>
            <a:off x="3718080" y="1238400"/>
            <a:ext cx="5303520" cy="1627200"/>
            <a:chOff x="3718080" y="1238400"/>
            <a:chExt cx="5303520" cy="1627200"/>
          </a:xfrm>
        </p:grpSpPr>
        <p:pic>
          <p:nvPicPr>
            <p:cNvPr id="220" name="Заголовок 1" descr=""/>
            <p:cNvPicPr/>
            <p:nvPr/>
          </p:nvPicPr>
          <p:blipFill>
            <a:blip r:embed="rId8"/>
            <a:stretch/>
          </p:blipFill>
          <p:spPr>
            <a:xfrm>
              <a:off x="3718080" y="1238400"/>
              <a:ext cx="530352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786120" y="1285920"/>
              <a:ext cx="514368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Методическая работа с педагогам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Развитие профессиональных компетентностей в соответствии с профстандартом</a:t>
              </a:r>
              <a:r>
                <a:rPr b="1" lang="ru-RU" sz="1800" spc="-1" strike="noStrike">
                  <a:solidFill>
                    <a:srgbClr val="254061"/>
                  </a:solidFill>
                  <a:latin typeface="Times New Roman"/>
                  <a:ea typeface="Calibri"/>
                </a:rPr>
                <a:t> Оптимизация образовательного процес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Статус инновационной площад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Стрелка вправо 15"/>
          <p:cNvSpPr/>
          <p:nvPr/>
        </p:nvSpPr>
        <p:spPr>
          <a:xfrm>
            <a:off x="3071880" y="1928880"/>
            <a:ext cx="750960" cy="4856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трелка вправо 17"/>
          <p:cNvSpPr/>
          <p:nvPr/>
        </p:nvSpPr>
        <p:spPr>
          <a:xfrm>
            <a:off x="3143160" y="5357880"/>
            <a:ext cx="822240" cy="4856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трелка вправо 18"/>
          <p:cNvSpPr/>
          <p:nvPr/>
        </p:nvSpPr>
        <p:spPr>
          <a:xfrm>
            <a:off x="3143160" y="3571920"/>
            <a:ext cx="822240" cy="4856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7" name="Заголовок 1"/>
          <p:cNvGrpSpPr/>
          <p:nvPr/>
        </p:nvGrpSpPr>
        <p:grpSpPr>
          <a:xfrm>
            <a:off x="360360" y="96840"/>
            <a:ext cx="8356680" cy="988920"/>
            <a:chOff x="360360" y="96840"/>
            <a:chExt cx="8356680" cy="988920"/>
          </a:xfrm>
        </p:grpSpPr>
        <p:pic>
          <p:nvPicPr>
            <p:cNvPr id="22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60360" y="96840"/>
              <a:ext cx="835668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28760" y="142920"/>
              <a:ext cx="8229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II</a:t>
              </a:r>
              <a:r>
                <a:rPr b="1" lang="en-US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I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. ПРАКТИЧЕСКИЙ ЭТА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(</a:t>
              </a:r>
              <a:r>
                <a:rPr b="0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еализация модели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Прямоугольник 6"/>
          <p:cNvSpPr/>
          <p:nvPr/>
        </p:nvSpPr>
        <p:spPr>
          <a:xfrm>
            <a:off x="2500200" y="114300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бота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428760" y="1500120"/>
            <a:ext cx="8358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ресурсных возможностей самосовершенств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творческих и рабочих групп, разрабатывающих отдельные аспекты, по внедрению игровы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 внедрение передового педагогического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через проектную деятельность практических форм работы, предполагающих совершенствование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боты в рамках инновационной площ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IMG_2915"/>
          <p:cNvPicPr/>
          <p:nvPr/>
        </p:nvPicPr>
        <p:blipFill>
          <a:blip r:embed="rId3"/>
          <a:stretch/>
        </p:blipFill>
        <p:spPr>
          <a:xfrm>
            <a:off x="142920" y="37861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1517"/>
          <p:cNvPicPr/>
          <p:nvPr/>
        </p:nvPicPr>
        <p:blipFill>
          <a:blip r:embed="rId4"/>
          <a:stretch/>
        </p:blipFill>
        <p:spPr>
          <a:xfrm>
            <a:off x="2286000" y="5072040"/>
            <a:ext cx="2181240" cy="164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D:\МЕТОД.РАБОТА\фото\2019-2020\Фото семинар и 23 февраля\IMG_3905.JPG"/>
          <p:cNvPicPr/>
          <p:nvPr/>
        </p:nvPicPr>
        <p:blipFill>
          <a:blip r:embed="rId5"/>
          <a:stretch/>
        </p:blipFill>
        <p:spPr>
          <a:xfrm>
            <a:off x="4476600" y="3714840"/>
            <a:ext cx="2190960" cy="1643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F:\IMG_20180524_144547.jpg"/>
          <p:cNvPicPr/>
          <p:nvPr/>
        </p:nvPicPr>
        <p:blipFill>
          <a:blip r:embed="rId6"/>
          <a:srcRect l="0" t="281" r="26302" b="0"/>
          <a:stretch/>
        </p:blipFill>
        <p:spPr>
          <a:xfrm>
            <a:off x="6715080" y="4929120"/>
            <a:ext cx="2344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4"/>
          <p:cNvSpPr/>
          <p:nvPr/>
        </p:nvSpPr>
        <p:spPr>
          <a:xfrm>
            <a:off x="142920" y="357120"/>
            <a:ext cx="8786880" cy="28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сове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Компетентность педагога как фундамент успешного развития личности детей и взрослы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Взаимодействие участников образовательного процесса в совершенствовании условий поддержания детской инициативы и самостоятельности в познавательно-исследовательской 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ализация модели взаимодействия педагогов в ходе образовательного процесса с учетом индивидуальных особенностей воспитанник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едрение современных игровых технолог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менение игровых технологий для развития и коррекции речи дошкольник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ые здоровьесберегающие технологии в дошкольном образовательном учреждении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и формирования активной позиции родителей как участников образовательного процесс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714240" y="0"/>
            <a:ext cx="77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фессиональных компетентностей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3500280" y="3214800"/>
            <a:ext cx="2000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0" y="3429000"/>
            <a:ext cx="871524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Модуль личностных качеств и профессиональных компетенций педагога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дель взаимодействия педагогов МБДОУ при реализации ООП и АООП, в методической работе». Взаимоконсультирование специалистов сопровождения образовательного процесса детей с ОВ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ые образовательные технологии » (обзор, анализ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Современные игровые технологии, интеграция с ИКТ» (обзор и анализ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Повышение компетентности родителей с использованием современных образовательных технологий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Взаимодействие с семьями воспитанников: традиционные и современные формы и подходы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9"/>
          <p:cNvSpPr/>
          <p:nvPr/>
        </p:nvSpPr>
        <p:spPr>
          <a:xfrm>
            <a:off x="2571840" y="52862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начинающего воспит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0"/>
          <p:cNvSpPr/>
          <p:nvPr/>
        </p:nvSpPr>
        <p:spPr>
          <a:xfrm>
            <a:off x="0" y="5643720"/>
            <a:ext cx="914400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физкультурно-оздоровительной работы в ДОУ; Игра как деятельность ребенка и игра как педагогическая форма; Организация детской проектной деятельности; Что такое технология, методика?; Виды технологий их классификация; Взаимодействие персонала группы при организации образовательного процесса; Взаимодействие персонала группы при организации летней оздоровительн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3"/>
          <p:cNvSpPr/>
          <p:nvPr/>
        </p:nvSpPr>
        <p:spPr>
          <a:xfrm>
            <a:off x="3571920" y="192888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285840" y="2214720"/>
            <a:ext cx="857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ы и приёмы работы с детьми, проявляющими упрямство, агрессию, РА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ррекция речи детей на основе игрового сотруднич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проектной деятельности в старшем дошкольном возра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 игровых технологий в Д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2889360" y="3214800"/>
            <a:ext cx="336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просмот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214200" y="350028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algn="just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вместной деятельности с использованием здоровьесберегающих технологий, игровых технологий, И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 образовательного процесса по поддержке детской исследовательской деятельности с опорой на принцип системной дифференци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8"/>
          <p:cNvSpPr/>
          <p:nvPr/>
        </p:nvSpPr>
        <p:spPr>
          <a:xfrm>
            <a:off x="2428920" y="47149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и рабочие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9"/>
          <p:cNvSpPr/>
          <p:nvPr/>
        </p:nvSpPr>
        <p:spPr>
          <a:xfrm>
            <a:off x="285840" y="5143680"/>
            <a:ext cx="857232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algn="just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группа по развитию РППС в целях поддержки одаренных детей старшего дошкольного воз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ts val="20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группа по изучению игровых технологий,  и их метод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ts val="20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группа по разработке программы здоровьесбере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ts val="20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группа по составлению рабочей программы воспитания МБД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0"/>
          <p:cNvSpPr/>
          <p:nvPr/>
        </p:nvSpPr>
        <p:spPr>
          <a:xfrm>
            <a:off x="3149640" y="142920"/>
            <a:ext cx="3137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ы-практику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1"/>
          <p:cNvSpPr/>
          <p:nvPr/>
        </p:nvSpPr>
        <p:spPr>
          <a:xfrm>
            <a:off x="357120" y="571680"/>
            <a:ext cx="857268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9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действующий семинар (ПДС) «Игровые технологии в образовательном процесс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овые технологии в речевом развитии» (опыт педагогов МБДО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Интерактивные формы взаимодействия с родителями», «Социальное партнёрство с семьями воспитанников и учреждениями города – условие эффективной работы по выявлению и развитию способностей детей, поддержанию творческой инициативы и познавательно-речевой актив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4"/>
          <p:cNvSpPr/>
          <p:nvPr/>
        </p:nvSpPr>
        <p:spPr>
          <a:xfrm>
            <a:off x="428760" y="0"/>
            <a:ext cx="82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тимизация образовательного процесса по направлению речевого развития детей (в том числе детей с ОВЗ)с использованием игровых техно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Заголовок 1"/>
          <p:cNvGrpSpPr/>
          <p:nvPr/>
        </p:nvGrpSpPr>
        <p:grpSpPr>
          <a:xfrm>
            <a:off x="146160" y="884160"/>
            <a:ext cx="2639880" cy="908280"/>
            <a:chOff x="146160" y="884160"/>
            <a:chExt cx="2639880" cy="908280"/>
          </a:xfrm>
        </p:grpSpPr>
        <p:pic>
          <p:nvPicPr>
            <p:cNvPr id="25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46160" y="884160"/>
              <a:ext cx="26398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14200" y="928800"/>
              <a:ext cx="25005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Консультации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Формы и виды планирования работы по развитию реч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Заголовок 1"/>
          <p:cNvGrpSpPr/>
          <p:nvPr/>
        </p:nvGrpSpPr>
        <p:grpSpPr>
          <a:xfrm>
            <a:off x="146160" y="1805040"/>
            <a:ext cx="2712960" cy="1060560"/>
            <a:chOff x="146160" y="1805040"/>
            <a:chExt cx="2712960" cy="1060560"/>
          </a:xfrm>
        </p:grpSpPr>
        <p:pic>
          <p:nvPicPr>
            <p:cNvPr id="261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46160" y="1805040"/>
              <a:ext cx="27129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14200" y="1857240"/>
              <a:ext cx="25718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еминар-практикум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Развитие речи детей с использованием игровых технологий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Заголовок 1"/>
          <p:cNvGrpSpPr/>
          <p:nvPr/>
        </p:nvGrpSpPr>
        <p:grpSpPr>
          <a:xfrm>
            <a:off x="146160" y="2882880"/>
            <a:ext cx="3213000" cy="1981080"/>
            <a:chOff x="146160" y="2882880"/>
            <a:chExt cx="3213000" cy="1981080"/>
          </a:xfrm>
        </p:grpSpPr>
        <p:pic>
          <p:nvPicPr>
            <p:cNvPr id="264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146160" y="2882880"/>
              <a:ext cx="3213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14200" y="2928960"/>
              <a:ext cx="307188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Школа начинающего воспитателя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Консультация: Физиологические основы развития речи дете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еминар-практикум: Методика проведения НОД по развитию речи дете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еминар-практикум: Организация речевой среды в групп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Заголовок 1"/>
          <p:cNvGrpSpPr/>
          <p:nvPr/>
        </p:nvGrpSpPr>
        <p:grpSpPr>
          <a:xfrm>
            <a:off x="73080" y="4889520"/>
            <a:ext cx="3524040" cy="689040"/>
            <a:chOff x="73080" y="4889520"/>
            <a:chExt cx="3524040" cy="689040"/>
          </a:xfrm>
        </p:grpSpPr>
        <p:pic>
          <p:nvPicPr>
            <p:cNvPr id="267" name="Заголовок 1" descr=""/>
            <p:cNvPicPr/>
            <p:nvPr/>
          </p:nvPicPr>
          <p:blipFill>
            <a:blip r:embed="rId5"/>
            <a:stretch/>
          </p:blipFill>
          <p:spPr>
            <a:xfrm>
              <a:off x="73080" y="4889520"/>
              <a:ext cx="3524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42920" y="4929120"/>
              <a:ext cx="33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ДС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«Современные коррекционные технологии в образовательном процессе»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Заголовок 1"/>
          <p:cNvGrpSpPr/>
          <p:nvPr/>
        </p:nvGrpSpPr>
        <p:grpSpPr>
          <a:xfrm>
            <a:off x="73080" y="5553000"/>
            <a:ext cx="3639960" cy="1244520"/>
            <a:chOff x="73080" y="5553000"/>
            <a:chExt cx="3639960" cy="1244520"/>
          </a:xfrm>
        </p:grpSpPr>
        <p:pic>
          <p:nvPicPr>
            <p:cNvPr id="270" name="Заголовок 1" descr=""/>
            <p:cNvPicPr/>
            <p:nvPr/>
          </p:nvPicPr>
          <p:blipFill>
            <a:blip r:embed="rId6"/>
            <a:stretch/>
          </p:blipFill>
          <p:spPr>
            <a:xfrm>
              <a:off x="73080" y="5553000"/>
              <a:ext cx="363996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42920" y="5643720"/>
              <a:ext cx="350028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Школа младшего воспитателя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Говорим правильно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Этика речевого общ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ыразительное чтение и рассказывание де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Заголовок 1"/>
          <p:cNvGrpSpPr/>
          <p:nvPr/>
        </p:nvGrpSpPr>
        <p:grpSpPr>
          <a:xfrm>
            <a:off x="3340080" y="822240"/>
            <a:ext cx="2811600" cy="1403280"/>
            <a:chOff x="3340080" y="822240"/>
            <a:chExt cx="2811600" cy="1403280"/>
          </a:xfrm>
        </p:grpSpPr>
        <p:pic>
          <p:nvPicPr>
            <p:cNvPr id="273" name="Заголовок 1" descr=""/>
            <p:cNvPicPr/>
            <p:nvPr/>
          </p:nvPicPr>
          <p:blipFill>
            <a:blip r:embed="rId7"/>
            <a:stretch/>
          </p:blipFill>
          <p:spPr>
            <a:xfrm>
              <a:off x="3340080" y="822240"/>
              <a:ext cx="281160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429000" y="928800"/>
              <a:ext cx="26431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едсовет тематический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офессиональная позиция педагога 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–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условие успешного речевого развития ребё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Заголовок 1"/>
          <p:cNvGrpSpPr/>
          <p:nvPr/>
        </p:nvGrpSpPr>
        <p:grpSpPr>
          <a:xfrm>
            <a:off x="3571920" y="2230560"/>
            <a:ext cx="3352680" cy="1493640"/>
            <a:chOff x="3571920" y="2230560"/>
            <a:chExt cx="3352680" cy="1493640"/>
          </a:xfrm>
        </p:grpSpPr>
        <p:pic>
          <p:nvPicPr>
            <p:cNvPr id="276" name="Заголовок 1" descr=""/>
            <p:cNvPicPr/>
            <p:nvPr/>
          </p:nvPicPr>
          <p:blipFill>
            <a:blip r:embed="rId8"/>
            <a:stretch/>
          </p:blipFill>
          <p:spPr>
            <a:xfrm>
              <a:off x="3571920" y="2230560"/>
              <a:ext cx="335268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643200" y="2286000"/>
              <a:ext cx="321480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едсоветы (малые)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Анализ динамики развития детей за полугодие, оценка эффективности педагогических  мероприяти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сихолого-педагогическая готовность детей к обучению в школ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Заголовок 1"/>
          <p:cNvGrpSpPr/>
          <p:nvPr/>
        </p:nvGrpSpPr>
        <p:grpSpPr>
          <a:xfrm>
            <a:off x="3565440" y="3743280"/>
            <a:ext cx="2719440" cy="1408320"/>
            <a:chOff x="3565440" y="3743280"/>
            <a:chExt cx="2719440" cy="1408320"/>
          </a:xfrm>
        </p:grpSpPr>
        <p:pic>
          <p:nvPicPr>
            <p:cNvPr id="279" name="Заголовок 1" descr=""/>
            <p:cNvPicPr/>
            <p:nvPr/>
          </p:nvPicPr>
          <p:blipFill>
            <a:blip r:embed="rId9"/>
            <a:stretch/>
          </p:blipFill>
          <p:spPr>
            <a:xfrm>
              <a:off x="3565440" y="3743280"/>
              <a:ext cx="2719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643200" y="3786120"/>
              <a:ext cx="25718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оектная деятельнос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«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ам себе писатель и издатель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»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(создание авторских семейных книг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Театральная нед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Заголовок 1"/>
          <p:cNvGrpSpPr/>
          <p:nvPr/>
        </p:nvGrpSpPr>
        <p:grpSpPr>
          <a:xfrm>
            <a:off x="3571920" y="5072040"/>
            <a:ext cx="1854000" cy="1725480"/>
            <a:chOff x="3571920" y="5072040"/>
            <a:chExt cx="1854000" cy="1725480"/>
          </a:xfrm>
        </p:grpSpPr>
        <p:pic>
          <p:nvPicPr>
            <p:cNvPr id="282" name="Заголовок 1" descr=""/>
            <p:cNvPicPr/>
            <p:nvPr/>
          </p:nvPicPr>
          <p:blipFill>
            <a:blip r:embed="rId10"/>
            <a:stretch/>
          </p:blipFill>
          <p:spPr>
            <a:xfrm>
              <a:off x="3571920" y="5072040"/>
              <a:ext cx="18540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643200" y="5143680"/>
              <a:ext cx="171468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Конкурсы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Конкурс чтецов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«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оэты о детях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Фестиваль детского творчества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«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асхальный колокольчик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Заголовок 1"/>
          <p:cNvGrpSpPr/>
          <p:nvPr/>
        </p:nvGrpSpPr>
        <p:grpSpPr>
          <a:xfrm>
            <a:off x="6364440" y="3743280"/>
            <a:ext cx="2840040" cy="3193920"/>
            <a:chOff x="6364440" y="3743280"/>
            <a:chExt cx="2840040" cy="3193920"/>
          </a:xfrm>
        </p:grpSpPr>
        <p:pic>
          <p:nvPicPr>
            <p:cNvPr id="285" name="Заголовок 1" descr=""/>
            <p:cNvPicPr/>
            <p:nvPr/>
          </p:nvPicPr>
          <p:blipFill>
            <a:blip r:embed="rId11"/>
            <a:stretch/>
          </p:blipFill>
          <p:spPr>
            <a:xfrm>
              <a:off x="6364440" y="3743280"/>
              <a:ext cx="28400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429240" y="3786120"/>
              <a:ext cx="2714760" cy="30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заимодействие с семьей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ень открытых двере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Консультирование различных служб и специалистов по запросам родителе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еминары-практикумы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Речевые игры для дошкольник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бучение детей пересказ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оставление описательных рассказов с деть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Консультация учителя-логопеда для род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ыставка опыта семейного воспитания по речевому развитию дете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Заголовок 1"/>
          <p:cNvGrpSpPr/>
          <p:nvPr/>
        </p:nvGrpSpPr>
        <p:grpSpPr>
          <a:xfrm>
            <a:off x="5357880" y="5102280"/>
            <a:ext cx="920520" cy="1695240"/>
            <a:chOff x="5357880" y="5102280"/>
            <a:chExt cx="920520" cy="1695240"/>
          </a:xfrm>
        </p:grpSpPr>
        <p:pic>
          <p:nvPicPr>
            <p:cNvPr id="288" name="Заголовок 1" descr=""/>
            <p:cNvPicPr/>
            <p:nvPr/>
          </p:nvPicPr>
          <p:blipFill>
            <a:blip r:embed="rId12"/>
            <a:stretch/>
          </p:blipFill>
          <p:spPr>
            <a:xfrm>
              <a:off x="5357880" y="5102280"/>
              <a:ext cx="9205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429160" y="5143680"/>
              <a:ext cx="78588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Мастер-класс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Техника реч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Заголовок 1"/>
          <p:cNvGrpSpPr/>
          <p:nvPr/>
        </p:nvGrpSpPr>
        <p:grpSpPr>
          <a:xfrm>
            <a:off x="6645240" y="878040"/>
            <a:ext cx="2279520" cy="1274760"/>
            <a:chOff x="6645240" y="878040"/>
            <a:chExt cx="2279520" cy="1274760"/>
          </a:xfrm>
        </p:grpSpPr>
        <p:pic>
          <p:nvPicPr>
            <p:cNvPr id="291" name="Заголовок 1" descr=""/>
            <p:cNvPicPr/>
            <p:nvPr/>
          </p:nvPicPr>
          <p:blipFill>
            <a:blip r:embed="rId13"/>
            <a:stretch/>
          </p:blipFill>
          <p:spPr>
            <a:xfrm>
              <a:off x="6645240" y="878040"/>
              <a:ext cx="227952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715080" y="928800"/>
              <a:ext cx="2143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Тематическая проверк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остояние работы по развитию речи детей в МБДОУ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Заголовок 1"/>
          <p:cNvGrpSpPr/>
          <p:nvPr/>
        </p:nvGrpSpPr>
        <p:grpSpPr>
          <a:xfrm>
            <a:off x="7004160" y="2236680"/>
            <a:ext cx="2017440" cy="1487520"/>
            <a:chOff x="7004160" y="2236680"/>
            <a:chExt cx="2017440" cy="1487520"/>
          </a:xfrm>
        </p:grpSpPr>
        <p:pic>
          <p:nvPicPr>
            <p:cNvPr id="294" name="Заголовок 1" descr=""/>
            <p:cNvPicPr/>
            <p:nvPr/>
          </p:nvPicPr>
          <p:blipFill>
            <a:blip r:embed="rId14"/>
            <a:stretch/>
          </p:blipFill>
          <p:spPr>
            <a:xfrm>
              <a:off x="7004160" y="2236680"/>
              <a:ext cx="20174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072200" y="2286000"/>
              <a:ext cx="18766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ткрытые просмот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езентация авторских пособий по развитию речи дошколь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Стрелка вправо 20"/>
          <p:cNvSpPr/>
          <p:nvPr/>
        </p:nvSpPr>
        <p:spPr>
          <a:xfrm rot="5400000">
            <a:off x="2617200" y="882720"/>
            <a:ext cx="822600" cy="48564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трелка вправо 21"/>
          <p:cNvSpPr/>
          <p:nvPr/>
        </p:nvSpPr>
        <p:spPr>
          <a:xfrm rot="5400000">
            <a:off x="5974920" y="882720"/>
            <a:ext cx="822600" cy="48564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4"/>
          <p:cNvSpPr/>
          <p:nvPr/>
        </p:nvSpPr>
        <p:spPr>
          <a:xfrm>
            <a:off x="500040" y="28584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 40» присвоен статус инновационной площадки федерального уровня АНО ДПО «НИИ дошкольного образования «Воспитатели России» по направлению «Организация и развитие исследовательской деятельности в условиях ДО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№ 9 от 05.04.202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428760" y="1500120"/>
            <a:ext cx="8358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680"/>
                </a:solidFill>
                <a:latin typeface="Times New Roman"/>
                <a:ea typeface="Times New Roman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0"/>
                </a:solidFill>
                <a:latin typeface="Times New Roman"/>
                <a:ea typeface="Times New Roman"/>
              </a:rPr>
              <a:t>Внедрить в практику работы метод развития исследовательской деятельности дошкольников, базирующийся на принципе системной дифференци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68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0"/>
                </a:solidFill>
                <a:latin typeface="Times New Roman"/>
                <a:ea typeface="Times New Roman"/>
              </a:rPr>
              <a:t>1.Проанализировать современные практики организации исследовательской деятельности в системе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0"/>
                </a:solidFill>
                <a:latin typeface="Times New Roman"/>
                <a:ea typeface="Times New Roman"/>
              </a:rPr>
              <a:t>2.Разработать методические рекомендации по развитию и педагогической поддержке исследовательской деятельности детей дошкольного возраста с опорой на принцип системной дифференц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0"/>
                </a:solidFill>
                <a:latin typeface="Times New Roman"/>
                <a:ea typeface="Times New Roman"/>
              </a:rPr>
              <a:t>3.Определить эффективность метода для становления исследовательской позиции у детей дошкольно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680"/>
                </a:solidFill>
                <a:latin typeface="Times New Roman"/>
                <a:ea typeface="Times New Roman"/>
              </a:rPr>
              <a:t>Предполаг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0"/>
                </a:solidFill>
                <a:latin typeface="Times New Roman"/>
                <a:ea typeface="Times New Roman"/>
              </a:rPr>
              <a:t>Методические рекомендации по организации и развитию исследовательской деятельности в условиях Д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Коллективs"/>
          <p:cNvPicPr/>
          <p:nvPr/>
        </p:nvPicPr>
        <p:blipFill>
          <a:blip r:embed="rId2"/>
          <a:stretch/>
        </p:blipFill>
        <p:spPr>
          <a:xfrm>
            <a:off x="7286760" y="5143680"/>
            <a:ext cx="1212840" cy="171432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6"/>
          <p:cNvSpPr/>
          <p:nvPr/>
        </p:nvSpPr>
        <p:spPr>
          <a:xfrm>
            <a:off x="428760" y="5643720"/>
            <a:ext cx="64292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материалов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://drive.google.com/file/d/1ovLqQRaOqwMQJaVwQfXczSDhK771uKAx/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Заголовок 1"/>
          <p:cNvGrpSpPr/>
          <p:nvPr/>
        </p:nvGrpSpPr>
        <p:grpSpPr>
          <a:xfrm>
            <a:off x="401760" y="146160"/>
            <a:ext cx="8358120" cy="987480"/>
            <a:chOff x="401760" y="146160"/>
            <a:chExt cx="8358120" cy="987480"/>
          </a:xfrm>
        </p:grpSpPr>
        <p:pic>
          <p:nvPicPr>
            <p:cNvPr id="30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01760" y="146160"/>
              <a:ext cx="83581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68360" y="189000"/>
              <a:ext cx="8229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рганизация развивающей предметно пространственной сре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Рисунок 9" descr=""/>
          <p:cNvPicPr/>
          <p:nvPr/>
        </p:nvPicPr>
        <p:blipFill>
          <a:blip r:embed="rId3"/>
          <a:srcRect l="0" t="17102" r="5319" b="37477"/>
          <a:stretch/>
        </p:blipFill>
        <p:spPr>
          <a:xfrm>
            <a:off x="214200" y="1571760"/>
            <a:ext cx="5572080" cy="2651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grpSp>
        <p:nvGrpSpPr>
          <p:cNvPr id="309" name="Скругленный прямоугольник 12"/>
          <p:cNvGrpSpPr/>
          <p:nvPr/>
        </p:nvGrpSpPr>
        <p:grpSpPr>
          <a:xfrm>
            <a:off x="1584360" y="1096920"/>
            <a:ext cx="3537000" cy="609480"/>
            <a:chOff x="1584360" y="1096920"/>
            <a:chExt cx="3537000" cy="609480"/>
          </a:xfrm>
        </p:grpSpPr>
        <p:pic>
          <p:nvPicPr>
            <p:cNvPr id="310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1584360" y="1096920"/>
              <a:ext cx="35370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31960" y="1231920"/>
              <a:ext cx="3251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гровой центр «Игротек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Picture 2" descr=""/>
          <p:cNvPicPr/>
          <p:nvPr/>
        </p:nvPicPr>
        <p:blipFill>
          <a:blip r:embed="rId5"/>
          <a:stretch/>
        </p:blipFill>
        <p:spPr>
          <a:xfrm>
            <a:off x="6000840" y="2071800"/>
            <a:ext cx="3024000" cy="20001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4" descr="I:\DCIM\100SSCAM\SDC11880.JPG"/>
          <p:cNvPicPr/>
          <p:nvPr/>
        </p:nvPicPr>
        <p:blipFill>
          <a:blip r:embed="rId6"/>
          <a:stretch/>
        </p:blipFill>
        <p:spPr>
          <a:xfrm>
            <a:off x="158760" y="4668840"/>
            <a:ext cx="2535120" cy="2182680"/>
          </a:xfrm>
          <a:prstGeom prst="rect">
            <a:avLst/>
          </a:prstGeom>
          <a:ln w="0">
            <a:noFill/>
          </a:ln>
        </p:spPr>
      </p:pic>
      <p:grpSp>
        <p:nvGrpSpPr>
          <p:cNvPr id="314" name="Скругленный прямоугольник 15"/>
          <p:cNvGrpSpPr/>
          <p:nvPr/>
        </p:nvGrpSpPr>
        <p:grpSpPr>
          <a:xfrm>
            <a:off x="1085760" y="4243320"/>
            <a:ext cx="3535560" cy="676440"/>
            <a:chOff x="1085760" y="4243320"/>
            <a:chExt cx="3535560" cy="676440"/>
          </a:xfrm>
        </p:grpSpPr>
        <p:pic>
          <p:nvPicPr>
            <p:cNvPr id="315" name="Скругленный прямоугольник 15" descr=""/>
            <p:cNvPicPr/>
            <p:nvPr/>
          </p:nvPicPr>
          <p:blipFill>
            <a:blip r:embed="rId7"/>
            <a:stretch/>
          </p:blipFill>
          <p:spPr>
            <a:xfrm>
              <a:off x="1085760" y="4243320"/>
              <a:ext cx="35355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235160" y="4378320"/>
              <a:ext cx="32446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гры на интерактивной дос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Picture 3" descr=""/>
          <p:cNvPicPr/>
          <p:nvPr/>
        </p:nvPicPr>
        <p:blipFill>
          <a:blip r:embed="rId8"/>
          <a:stretch/>
        </p:blipFill>
        <p:spPr>
          <a:xfrm>
            <a:off x="2714760" y="478620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C:\Users\user\Desktop\фото 2019\Дет сад\20191015_152817.jpg"/>
          <p:cNvPicPr/>
          <p:nvPr/>
        </p:nvPicPr>
        <p:blipFill>
          <a:blip r:embed="rId9"/>
          <a:stretch/>
        </p:blipFill>
        <p:spPr>
          <a:xfrm>
            <a:off x="6066000" y="4425840"/>
            <a:ext cx="2766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0" name="Заголовок 1"/>
          <p:cNvGrpSpPr/>
          <p:nvPr/>
        </p:nvGrpSpPr>
        <p:grpSpPr>
          <a:xfrm>
            <a:off x="401760" y="36360"/>
            <a:ext cx="8358120" cy="927360"/>
            <a:chOff x="401760" y="36360"/>
            <a:chExt cx="8358120" cy="927360"/>
          </a:xfrm>
        </p:grpSpPr>
        <p:pic>
          <p:nvPicPr>
            <p:cNvPr id="32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01760" y="36360"/>
              <a:ext cx="835812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68360" y="115920"/>
              <a:ext cx="82296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заимодействие с семьями воспитанников</a:t>
              </a:r>
              <a:br>
                <a:rPr sz="24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Просвещение и пропаганда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3" name=""/>
          <p:cNvGraphicFramePr/>
          <p:nvPr/>
        </p:nvGraphicFramePr>
        <p:xfrm>
          <a:off x="250920" y="1197000"/>
          <a:ext cx="6929280" cy="5230800"/>
        </p:xfrm>
        <a:graphic>
          <a:graphicData uri="http://schemas.openxmlformats.org/drawingml/2006/table">
            <a:tbl>
              <a:tblPr/>
              <a:tblGrid>
                <a:gridCol w="6929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аналитические формы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, опросы, интервьюирование (проводя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, де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11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о-информационные форм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и методических материалов, фотогазет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ки-передвижки, памятки, материалы сайта МБДО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73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 в мероприятия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преобразование развивающей предметно пространственной  среды; совместная с детьми образовательная деятельность; участие в праздниках, досугах; проектная деятельность; участие в акции; выставки; музеи, конкурсы, фестивали, совместные экскур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 формы (обмен опытом семейного воспитания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ие конференции, диалог-клуб, круглый стол, мастер-классы, интерактивные презентации, «прокат игр», дни открытых двер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324" name="Picture 2" descr="D:\Фото\Родительская конференция 2018\IMG_20180425_180657_BURST2.jpg"/>
          <p:cNvPicPr/>
          <p:nvPr/>
        </p:nvPicPr>
        <p:blipFill>
          <a:blip r:embed="rId3"/>
          <a:srcRect l="0" t="17257" r="26760" b="0"/>
          <a:stretch/>
        </p:blipFill>
        <p:spPr>
          <a:xfrm>
            <a:off x="5929200" y="1500120"/>
            <a:ext cx="28576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6" name="Заголовок 1"/>
          <p:cNvGrpSpPr/>
          <p:nvPr/>
        </p:nvGrpSpPr>
        <p:grpSpPr>
          <a:xfrm>
            <a:off x="291960" y="96840"/>
            <a:ext cx="8553600" cy="866880"/>
            <a:chOff x="291960" y="96840"/>
            <a:chExt cx="8553600" cy="866880"/>
          </a:xfrm>
        </p:grpSpPr>
        <p:pic>
          <p:nvPicPr>
            <p:cNvPr id="32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91960" y="96840"/>
              <a:ext cx="85536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57120" y="142920"/>
              <a:ext cx="84297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езультативность профессиональной педагогической деятель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оугольник 3"/>
          <p:cNvSpPr/>
          <p:nvPr/>
        </p:nvSpPr>
        <p:spPr>
          <a:xfrm>
            <a:off x="179280" y="1071720"/>
            <a:ext cx="2320920" cy="1285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рофессиональной компетентности педагога (анкетирование, наблюдение, анализ деятельн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2643120" y="928800"/>
            <a:ext cx="2928960" cy="128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высилась познавательно-речевая активность детей в том числе детей с ОВЗ (наблюдение, результаты педагогической диагностики, участие в конкурсах по направлени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5"/>
          <p:cNvSpPr/>
          <p:nvPr/>
        </p:nvSpPr>
        <p:spPr>
          <a:xfrm>
            <a:off x="2643120" y="2286000"/>
            <a:ext cx="2928960" cy="85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Пополнение РППС играми и пособиями, в соответствии с реализуемыми технологиям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6"/>
          <p:cNvSpPr/>
          <p:nvPr/>
        </p:nvSpPr>
        <p:spPr>
          <a:xfrm>
            <a:off x="5715000" y="1071720"/>
            <a:ext cx="3143160" cy="1714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Составлены методические рекомендации по развитию и педагогической поддержке исследовательской деятельности детей дошкольного возраста с опорой на принцип системной дифференциации в рамках инновационной площа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8"/>
          <p:cNvSpPr/>
          <p:nvPr/>
        </p:nvSpPr>
        <p:spPr>
          <a:xfrm>
            <a:off x="357120" y="5572080"/>
            <a:ext cx="842976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ышение уровня педагогических знаний и умений родителей, включенности их в образовательные отнош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знанная поддержка познавательно – речевой активности детей, использование речевых и развивающих игр в домашних условиях. Участие с детьми  в конкурсах разных уровней познавательно-речевой направл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Диаграмма 9" descr=""/>
          <p:cNvPicPr/>
          <p:nvPr/>
        </p:nvPicPr>
        <p:blipFill>
          <a:blip r:embed="rId3"/>
          <a:stretch/>
        </p:blipFill>
        <p:spPr>
          <a:xfrm>
            <a:off x="642960" y="3000240"/>
            <a:ext cx="7929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1000080" y="3214800"/>
            <a:ext cx="61437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5" name=""/>
          <p:cNvSpPr txBox="1"/>
          <p:nvPr/>
        </p:nvSpPr>
        <p:spPr>
          <a:xfrm>
            <a:off x="4761720" y="3476160"/>
            <a:ext cx="3939840" cy="219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я концепция технологии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соответствова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м требованиям, возрастным особенностям и возможностям ребенка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ая системность и системная совместимость технологии с имеющимся педагогическим процесс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1720" y="209160"/>
            <a:ext cx="8582760" cy="122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фессиональной компетентности педагогов  в повышение познавательно - речевой активности детей дошкольного возраста (в том числе детям с ОВЗ) средствами  игров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одержимое 2"/>
          <p:cNvSpPr/>
          <p:nvPr/>
        </p:nvSpPr>
        <p:spPr>
          <a:xfrm>
            <a:off x="214200" y="2428920"/>
            <a:ext cx="403236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недрённые, новые, обладающие повышенной эффективностью методы, инструменты, приёмы, являющиеся конечным результатом интеллектуальной деятельности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214200" y="4643280"/>
            <a:ext cx="4032360" cy="200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технология - всесторонне направленный компле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приемов, способов и методов ведения образов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педагогом для достижения поставленных ц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6" name="Заголовок 1"/>
          <p:cNvGrpSpPr/>
          <p:nvPr/>
        </p:nvGrpSpPr>
        <p:grpSpPr>
          <a:xfrm>
            <a:off x="291960" y="96840"/>
            <a:ext cx="8553600" cy="866880"/>
            <a:chOff x="291960" y="96840"/>
            <a:chExt cx="8553600" cy="866880"/>
          </a:xfrm>
        </p:grpSpPr>
        <p:pic>
          <p:nvPicPr>
            <p:cNvPr id="33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91960" y="96840"/>
              <a:ext cx="85536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57120" y="142920"/>
              <a:ext cx="84297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Диапазон личного вклада педагога в развитие обра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Прямоугольник 8"/>
          <p:cNvSpPr/>
          <p:nvPr/>
        </p:nvSpPr>
        <p:spPr>
          <a:xfrm>
            <a:off x="500040" y="3143160"/>
            <a:ext cx="828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9"/>
          <p:cNvSpPr/>
          <p:nvPr/>
        </p:nvSpPr>
        <p:spPr>
          <a:xfrm>
            <a:off x="214200" y="1214280"/>
            <a:ext cx="864396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аботана АООП ДО для обучающихся с ТНР, содержание образовательного процесса определяется  ПАООП  под редакцией Л.В. Лопатиной, Л.Б. Боряевой, которая предлагает игры и игровые упражнения познавательно-речевого развития, использование которых специалистами (учителями-логопедами, учителями-дефектологами, педагогом-психологом, музыкальным руководителем) в образовательной и совместной деятельности с детьми 3-7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ет с ОВЗ позволяет каждому ребёнку успешно развиваться, быть активным в детской деятель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оздана образовательная среда, которая способна побуждать детей   самостоятельно находить пути решения возникших проблем и в наибольшей степени проявлять активность как в общении, так и  в разных видах деятельности, тем самым реализовывая ФГОС Д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положения конкурсов: творческий конкурс для детей и родителей «Лучшая развивающая игра-самоделка»; педагогический конкурс «Лучший кабинет учителя-логопеда»; Конкурс педагогических идей; конкурс педагогических проектов; творческий педагогический конкурс «Лучшая развивающая компьютерная игра или презентация для детей дошкольного возраст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а памятка по организации проект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: «Современные игровые технологии» (обзор и анализ); «Модель взаимодействия педагогов МБДОУ при реализации ООП и АООП, в методической работе». Взаимоконсультирование специалистов сопровождения образовательного процесса детей с ОВ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«Обзор педагогических технологий», «Приватные маркеры игрового пространства (ширмы)»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2" name="Заголовок 1"/>
          <p:cNvGrpSpPr/>
          <p:nvPr/>
        </p:nvGrpSpPr>
        <p:grpSpPr>
          <a:xfrm>
            <a:off x="291960" y="79200"/>
            <a:ext cx="8553600" cy="884520"/>
            <a:chOff x="291960" y="79200"/>
            <a:chExt cx="8553600" cy="884520"/>
          </a:xfrm>
        </p:grpSpPr>
        <p:pic>
          <p:nvPicPr>
            <p:cNvPr id="34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91960" y="79200"/>
              <a:ext cx="855360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57120" y="142920"/>
              <a:ext cx="84297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Транслируемость практических достижений профессиональной деятельности педаго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Прямоугольник 8"/>
          <p:cNvSpPr/>
          <p:nvPr/>
        </p:nvSpPr>
        <p:spPr>
          <a:xfrm>
            <a:off x="500040" y="3143160"/>
            <a:ext cx="828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285840" y="928800"/>
            <a:ext cx="86439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я из опыта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Использование современных образовательных технологий в МБДОУ» - городская педагогическая конференция – 2017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Универсальные приватные маркеры пространства (ширмы)» - городской «Фестиваль педагогических идей» - 201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урнале «Профессия воспитатель» «Использование игровых технологий, как эффективное средство развития речи детей дошкольного возраста» 201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тельном СМИ «Педагогический альманах» перзентация и статья по теме: «Использование современных образовательных технологий» 202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сайт старшего воспитателя на образовательном NSпорта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ородских мероприятиях и проекта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 теме «Формирование у детей дошкольн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й о правильном питании»: Городская научно-практ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ренция «Воспитываем здоровое поколение. Калейдоскоп идей в реализации программы «Разговор о правильном питании» (Саров) – 2018 г. (с участием представителей ГБОУ ДПО НИРО, автора программ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лен жюри в городском конкурсе «Я-исследователь» 2018 г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тупления и руководство городским методическим объединением воспитателей групп компенсирующей направленности 2019 г.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Финалист городского конкурса Бережливые Технологии- 2 место 2020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16" descr="Свидетельство о публикации"/>
          <p:cNvPicPr/>
          <p:nvPr/>
        </p:nvPicPr>
        <p:blipFill>
          <a:blip r:embed="rId3"/>
          <a:stretch/>
        </p:blipFill>
        <p:spPr>
          <a:xfrm>
            <a:off x="7429680" y="3071880"/>
            <a:ext cx="1365120" cy="18828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Свидетельство о публикации"/>
          <p:cNvPicPr/>
          <p:nvPr/>
        </p:nvPicPr>
        <p:blipFill>
          <a:blip r:embed="rId4"/>
          <a:stretch/>
        </p:blipFill>
        <p:spPr>
          <a:xfrm>
            <a:off x="6072120" y="3071880"/>
            <a:ext cx="1170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0" name="Заголовок 1"/>
          <p:cNvGrpSpPr/>
          <p:nvPr/>
        </p:nvGrpSpPr>
        <p:grpSpPr>
          <a:xfrm>
            <a:off x="390600" y="30240"/>
            <a:ext cx="8356680" cy="598320"/>
            <a:chOff x="390600" y="30240"/>
            <a:chExt cx="8356680" cy="598320"/>
          </a:xfrm>
        </p:grpSpPr>
        <p:pic>
          <p:nvPicPr>
            <p:cNvPr id="35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0600" y="30240"/>
              <a:ext cx="835668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57200" y="142920"/>
              <a:ext cx="8229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Литерату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 txBox="1"/>
          <p:nvPr/>
        </p:nvSpPr>
        <p:spPr>
          <a:xfrm>
            <a:off x="0" y="785520"/>
            <a:ext cx="914400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7.10.2013 N 1155 (ред. от 21.01.2019) "Об утверждении федерального государственного образовательного стандарта дошкольного образован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"Об образовании в Российской Федерации" от 29.12.2012 N 273-Ф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от 18.10.2013 г. № 544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К.Ю. Методическая деятельность в дошкольной организации. 2 изд., испр., допол. М.: ТЦ Сфера ,201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а Н.А. Методическая работа в ДОУ. Эффективные формы и методы: методическое пособие / Н.А. Виноградова, Н.В. Микляева, Ю.Н. Родионова. – М.: Айрис – пресс, 2008. – 192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рожец, А. В. Игра и развитие ребенка // Психология и педагогика игры дошкольника / под ред. А. В. Запорожца, А. П. Усовой. — М. : Просвещение, 196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вцова, Е. Е. Педагогика и психология / Е. Е. Кравцова. — М. : Форум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ова, О. З. Методическая служба как фактор развития профессиональной компетентности педагогов : автореф. дис. ... канд. пед. наук / О. З. Кузнецова. — Улан-Удэ, 200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ова С.В., Пронина М.Ю, Ромахова М.В. Инновационный поиск. Обновление системы методической работы в ДОО. – М.: ТЦ Сфера, 201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ер, А. А. Модель профессиональной компетентности педагога дошкольного образования / А. А. Майер / / Управление ДОУ. — 2007 — № 1.п Противоречия, приоритеты: сборник научных трудов Международной научно-практической конференции (14 марта 2014 г.).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цкая, В. А. Методическое сопровождение воспитателя в условиях современного дошкольного образовательного учреждения : автореф. дис. канд. пед. наук / В. А. Новицкая. — СПб., 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ченко В.И. Организация системы методической работы в ДОО по сопровождению ФГОС ДО. Практические разработки для старших воспитателей ДОО. – СПб.: ООО «ИЗДАТЕЛЬСТВО «ДЕТСТВО-ПРЕСС», 201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енева А.А., Вербовская Е.В., Попова В.Р. Компетентностная модель современного педагога ДОО в контексте реализации ФГОС ДО/Нижегородское образование. – 2015. - №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маскина Ю.В. Богословец Л.Г. Современные педагогические технологии в ДОУ.- Санкт-Петербург: Изд-во «Детство-Пресс», 20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ая деятельность в ДОУ: програм.-метод. обеспечение : пособие для рук. и адм. работников /И. А. Урмина, Т. А. Данилина. — М.: Линка-Пресс, 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барова Т.В. Педагогические технологии в дошкольном образовании. – СПб.: ООО «Издательство «Детство – Пресс»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grpSp>
        <p:nvGrpSpPr>
          <p:cNvPr id="61" name="Заголовок 1"/>
          <p:cNvGrpSpPr/>
          <p:nvPr/>
        </p:nvGrpSpPr>
        <p:grpSpPr>
          <a:xfrm>
            <a:off x="12600" y="-92160"/>
            <a:ext cx="8875800" cy="835200"/>
            <a:chOff x="12600" y="-92160"/>
            <a:chExt cx="8875800" cy="835200"/>
          </a:xfrm>
        </p:grpSpPr>
        <p:pic>
          <p:nvPicPr>
            <p:cNvPr id="6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2600" y="-92160"/>
              <a:ext cx="88758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7760" y="-50760"/>
              <a:ext cx="87487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Условия формирования личного вклада в развитие обра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Прямая соединительная линия 24"/>
          <p:cNvSpPr/>
          <p:nvPr/>
        </p:nvSpPr>
        <p:spPr>
          <a:xfrm>
            <a:off x="2268360" y="4365720"/>
            <a:ext cx="214560" cy="144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хема 28" descr=""/>
          <p:cNvPicPr/>
          <p:nvPr/>
        </p:nvPicPr>
        <p:blipFill>
          <a:blip r:embed="rId3"/>
          <a:stretch/>
        </p:blipFill>
        <p:spPr>
          <a:xfrm>
            <a:off x="122400" y="725400"/>
            <a:ext cx="891216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67" name="Заголовок 1"/>
          <p:cNvGrpSpPr/>
          <p:nvPr/>
        </p:nvGrpSpPr>
        <p:grpSpPr>
          <a:xfrm>
            <a:off x="255600" y="73080"/>
            <a:ext cx="8559720" cy="701640"/>
            <a:chOff x="255600" y="73080"/>
            <a:chExt cx="8559720" cy="701640"/>
          </a:xfrm>
        </p:grpSpPr>
        <p:pic>
          <p:nvPicPr>
            <p:cNvPr id="6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55600" y="73080"/>
              <a:ext cx="85597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24000" y="115920"/>
              <a:ext cx="8429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Заголовок 51" descr=""/>
          <p:cNvPicPr/>
          <p:nvPr/>
        </p:nvPicPr>
        <p:blipFill>
          <a:blip r:embed="rId3"/>
          <a:stretch/>
        </p:blipFill>
        <p:spPr>
          <a:xfrm>
            <a:off x="463680" y="182520"/>
            <a:ext cx="8253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71" name="Скругленный прямоугольник 20"/>
          <p:cNvGrpSpPr/>
          <p:nvPr/>
        </p:nvGrpSpPr>
        <p:grpSpPr>
          <a:xfrm>
            <a:off x="2066760" y="1395360"/>
            <a:ext cx="2024280" cy="1122480"/>
            <a:chOff x="2066760" y="1395360"/>
            <a:chExt cx="2024280" cy="1122480"/>
          </a:xfrm>
        </p:grpSpPr>
        <p:pic>
          <p:nvPicPr>
            <p:cNvPr id="72" name="Скругленный прямоугольник 20" descr=""/>
            <p:cNvPicPr/>
            <p:nvPr/>
          </p:nvPicPr>
          <p:blipFill>
            <a:blip r:embed="rId4"/>
            <a:stretch/>
          </p:blipFill>
          <p:spPr>
            <a:xfrm>
              <a:off x="2066760" y="1395360"/>
              <a:ext cx="20242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189160" y="1546200"/>
              <a:ext cx="1781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он об образовании Р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Скругленный прямоугольник 21"/>
          <p:cNvGrpSpPr/>
          <p:nvPr/>
        </p:nvGrpSpPr>
        <p:grpSpPr>
          <a:xfrm>
            <a:off x="2066760" y="2803680"/>
            <a:ext cx="1951200" cy="787320"/>
            <a:chOff x="2066760" y="2803680"/>
            <a:chExt cx="1951200" cy="787320"/>
          </a:xfrm>
        </p:grpSpPr>
        <p:pic>
          <p:nvPicPr>
            <p:cNvPr id="75" name="Скругленный прямоугольник 21" descr=""/>
            <p:cNvPicPr/>
            <p:nvPr/>
          </p:nvPicPr>
          <p:blipFill>
            <a:blip r:embed="rId5"/>
            <a:stretch/>
          </p:blipFill>
          <p:spPr>
            <a:xfrm>
              <a:off x="2066760" y="2803680"/>
              <a:ext cx="19512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74760" y="2889360"/>
              <a:ext cx="1737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ГОС Д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12"/>
          <p:cNvGrpSpPr/>
          <p:nvPr/>
        </p:nvGrpSpPr>
        <p:grpSpPr>
          <a:xfrm>
            <a:off x="4780080" y="3376440"/>
            <a:ext cx="4278240" cy="1713240"/>
            <a:chOff x="4780080" y="3376440"/>
            <a:chExt cx="4278240" cy="1713240"/>
          </a:xfrm>
        </p:grpSpPr>
        <p:pic>
          <p:nvPicPr>
            <p:cNvPr id="78" name="Скругленный 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4780080" y="3376440"/>
              <a:ext cx="427824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933800" y="3505320"/>
              <a:ext cx="39736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блюдается снижение активности, любознательности у детей в разных видах деятельности, дошкольники редко проявляют интерес  к наблюдениям, недостаточно широк кругозор, </a:t>
              </a:r>
              <a:r>
                <a:rPr b="0" lang="ru-RU" sz="14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речевая недостаточность проявляется во всех компонента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30"/>
          <p:cNvGrpSpPr/>
          <p:nvPr/>
        </p:nvGrpSpPr>
        <p:grpSpPr>
          <a:xfrm>
            <a:off x="4992840" y="1305000"/>
            <a:ext cx="3925800" cy="1000080"/>
            <a:chOff x="4992840" y="1305000"/>
            <a:chExt cx="3925800" cy="1000080"/>
          </a:xfrm>
        </p:grpSpPr>
        <p:pic>
          <p:nvPicPr>
            <p:cNvPr id="81" name="Скругленный прямоугольник 30" descr=""/>
            <p:cNvPicPr/>
            <p:nvPr/>
          </p:nvPicPr>
          <p:blipFill>
            <a:blip r:embed="rId7"/>
            <a:stretch/>
          </p:blipFill>
          <p:spPr>
            <a:xfrm>
              <a:off x="4992840" y="1305000"/>
              <a:ext cx="39258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113440" y="1398600"/>
              <a:ext cx="36925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абота в условиях переходного периода: объединение учреждений общеразвивающей и компенсирующей направлен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37"/>
          <p:cNvGrpSpPr/>
          <p:nvPr/>
        </p:nvGrpSpPr>
        <p:grpSpPr>
          <a:xfrm>
            <a:off x="133200" y="3157560"/>
            <a:ext cx="1940040" cy="865080"/>
            <a:chOff x="133200" y="3157560"/>
            <a:chExt cx="1940040" cy="865080"/>
          </a:xfrm>
        </p:grpSpPr>
        <p:pic>
          <p:nvPicPr>
            <p:cNvPr id="84" name="Скругленный прямоугольник 37" descr=""/>
            <p:cNvPicPr/>
            <p:nvPr/>
          </p:nvPicPr>
          <p:blipFill>
            <a:blip r:embed="rId8"/>
            <a:stretch/>
          </p:blipFill>
          <p:spPr>
            <a:xfrm>
              <a:off x="133200" y="3157560"/>
              <a:ext cx="19400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49120" y="3249720"/>
              <a:ext cx="17161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фстандарт педаго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Стрелка вниз 40"/>
          <p:cNvSpPr/>
          <p:nvPr/>
        </p:nvSpPr>
        <p:spPr>
          <a:xfrm>
            <a:off x="3143160" y="4429080"/>
            <a:ext cx="171468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Скругленный прямоугольник 14"/>
          <p:cNvGrpSpPr/>
          <p:nvPr/>
        </p:nvGrpSpPr>
        <p:grpSpPr>
          <a:xfrm>
            <a:off x="5992920" y="731880"/>
            <a:ext cx="2011320" cy="646200"/>
            <a:chOff x="5992920" y="731880"/>
            <a:chExt cx="2011320" cy="646200"/>
          </a:xfrm>
        </p:grpSpPr>
        <p:pic>
          <p:nvPicPr>
            <p:cNvPr id="88" name="Скругленный прямоугольник 14" descr=""/>
            <p:cNvPicPr/>
            <p:nvPr/>
          </p:nvPicPr>
          <p:blipFill>
            <a:blip r:embed="rId9"/>
            <a:stretch/>
          </p:blipFill>
          <p:spPr>
            <a:xfrm>
              <a:off x="5992920" y="731880"/>
              <a:ext cx="2011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095880" y="809640"/>
              <a:ext cx="18097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Скругленный прямоугольник 19"/>
          <p:cNvGrpSpPr/>
          <p:nvPr/>
        </p:nvGrpSpPr>
        <p:grpSpPr>
          <a:xfrm>
            <a:off x="133200" y="1944720"/>
            <a:ext cx="1957680" cy="931680"/>
            <a:chOff x="133200" y="1944720"/>
            <a:chExt cx="1957680" cy="931680"/>
          </a:xfrm>
        </p:grpSpPr>
        <p:pic>
          <p:nvPicPr>
            <p:cNvPr id="91" name="Скругленный прямоугольник 19" descr=""/>
            <p:cNvPicPr/>
            <p:nvPr/>
          </p:nvPicPr>
          <p:blipFill>
            <a:blip r:embed="rId10"/>
            <a:stretch/>
          </p:blipFill>
          <p:spPr>
            <a:xfrm>
              <a:off x="133200" y="1944720"/>
              <a:ext cx="19576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52360" y="2038320"/>
              <a:ext cx="1722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ституция Р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Содержимое 2"/>
          <p:cNvSpPr/>
          <p:nvPr/>
        </p:nvSpPr>
        <p:spPr>
          <a:xfrm>
            <a:off x="928800" y="5214960"/>
            <a:ext cx="691344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новому качественному образованию невозможен без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недрения в образовательный процесс современных педагогических технолог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Повышения профессиональной компетенции педаго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заимодействия всех субъектов образовательного сооб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15"/>
          <p:cNvGrpSpPr/>
          <p:nvPr/>
        </p:nvGrpSpPr>
        <p:grpSpPr>
          <a:xfrm>
            <a:off x="4992840" y="2803680"/>
            <a:ext cx="3925800" cy="645840"/>
            <a:chOff x="4992840" y="2803680"/>
            <a:chExt cx="3925800" cy="645840"/>
          </a:xfrm>
        </p:grpSpPr>
        <p:pic>
          <p:nvPicPr>
            <p:cNvPr id="96" name="Скругленный прямоугольник 15" descr=""/>
            <p:cNvPicPr/>
            <p:nvPr/>
          </p:nvPicPr>
          <p:blipFill>
            <a:blip r:embed="rId11"/>
            <a:stretch/>
          </p:blipFill>
          <p:spPr>
            <a:xfrm>
              <a:off x="4992840" y="2803680"/>
              <a:ext cx="39258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095800" y="2881440"/>
              <a:ext cx="3727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вые требования к профессиональным качествам педаго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ый прямоугольник 17"/>
          <p:cNvGrpSpPr/>
          <p:nvPr/>
        </p:nvGrpSpPr>
        <p:grpSpPr>
          <a:xfrm>
            <a:off x="920880" y="682560"/>
            <a:ext cx="2023920" cy="755640"/>
            <a:chOff x="920880" y="682560"/>
            <a:chExt cx="2023920" cy="755640"/>
          </a:xfrm>
        </p:grpSpPr>
        <p:pic>
          <p:nvPicPr>
            <p:cNvPr id="99" name="Скругленный прямоугольник 17" descr=""/>
            <p:cNvPicPr/>
            <p:nvPr/>
          </p:nvPicPr>
          <p:blipFill>
            <a:blip r:embed="rId12"/>
            <a:stretch/>
          </p:blipFill>
          <p:spPr>
            <a:xfrm>
              <a:off x="920880" y="682560"/>
              <a:ext cx="2023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027080" y="812880"/>
              <a:ext cx="18176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мативные документ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22"/>
          <p:cNvGrpSpPr/>
          <p:nvPr/>
        </p:nvGrpSpPr>
        <p:grpSpPr>
          <a:xfrm>
            <a:off x="4992840" y="2230560"/>
            <a:ext cx="3925800" cy="645840"/>
            <a:chOff x="4992840" y="2230560"/>
            <a:chExt cx="3925800" cy="645840"/>
          </a:xfrm>
        </p:grpSpPr>
        <p:pic>
          <p:nvPicPr>
            <p:cNvPr id="102" name="Скругленный прямоугольник 22" descr=""/>
            <p:cNvPicPr/>
            <p:nvPr/>
          </p:nvPicPr>
          <p:blipFill>
            <a:blip r:embed="rId13"/>
            <a:stretch/>
          </p:blipFill>
          <p:spPr>
            <a:xfrm>
              <a:off x="4992840" y="2230560"/>
              <a:ext cx="39258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095800" y="2309760"/>
              <a:ext cx="3727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бновление педагогического коллектива (30% начинающих педагог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Заголовок 1"/>
          <p:cNvGrpSpPr/>
          <p:nvPr/>
        </p:nvGrpSpPr>
        <p:grpSpPr>
          <a:xfrm>
            <a:off x="219240" y="0"/>
            <a:ext cx="8559720" cy="701640"/>
            <a:chOff x="219240" y="0"/>
            <a:chExt cx="8559720" cy="701640"/>
          </a:xfrm>
        </p:grpSpPr>
        <p:pic>
          <p:nvPicPr>
            <p:cNvPr id="10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19240" y="0"/>
              <a:ext cx="85597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85840" y="44280"/>
              <a:ext cx="8429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</a:rPr>
                <a:t>Теоретическое обоснование  личного вклада  в развитие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оугольник 4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677960" y="765000"/>
            <a:ext cx="5913360" cy="935280"/>
          </a:xfrm>
          <a:prstGeom prst="rect">
            <a:avLst/>
          </a:prstGeom>
          <a:solidFill>
            <a:srgbClr val="ffffc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е технологии как эффективное средство повышения качества образования в ДО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нципы в поиске н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8"/>
          <p:cNvSpPr/>
          <p:nvPr/>
        </p:nvSpPr>
        <p:spPr>
          <a:xfrm>
            <a:off x="2214720" y="4714920"/>
            <a:ext cx="4897440" cy="17143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ые техно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ная технолог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ТРИ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сберегающие техно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Скругленный прямоугольник 9"/>
          <p:cNvGrpSpPr/>
          <p:nvPr/>
        </p:nvGrpSpPr>
        <p:grpSpPr>
          <a:xfrm>
            <a:off x="60480" y="2090880"/>
            <a:ext cx="1665000" cy="1474560"/>
            <a:chOff x="60480" y="2090880"/>
            <a:chExt cx="1665000" cy="1474560"/>
          </a:xfrm>
        </p:grpSpPr>
        <p:pic>
          <p:nvPicPr>
            <p:cNvPr id="112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2090880"/>
              <a:ext cx="166500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08080" y="2208240"/>
              <a:ext cx="1382760" cy="12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тегр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Скругленный прямоугольник 13"/>
          <p:cNvGrpSpPr/>
          <p:nvPr/>
        </p:nvGrpSpPr>
        <p:grpSpPr>
          <a:xfrm>
            <a:off x="1847880" y="2090880"/>
            <a:ext cx="1736640" cy="1474560"/>
            <a:chOff x="1847880" y="2090880"/>
            <a:chExt cx="1736640" cy="1474560"/>
          </a:xfrm>
        </p:grpSpPr>
        <p:pic>
          <p:nvPicPr>
            <p:cNvPr id="115" name="Скругленный 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1847880" y="2090880"/>
              <a:ext cx="173664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994040" y="2208240"/>
              <a:ext cx="1454040" cy="12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ного-функциональные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своему характе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Скругленный прямоугольник 17"/>
          <p:cNvGrpSpPr/>
          <p:nvPr/>
        </p:nvGrpSpPr>
        <p:grpSpPr>
          <a:xfrm>
            <a:off x="3633840" y="2090880"/>
            <a:ext cx="1755720" cy="1433520"/>
            <a:chOff x="3633840" y="2090880"/>
            <a:chExt cx="1755720" cy="1433520"/>
          </a:xfrm>
        </p:grpSpPr>
        <p:pic>
          <p:nvPicPr>
            <p:cNvPr id="118" name="Скругленный прямоугольник 17" descr=""/>
            <p:cNvPicPr/>
            <p:nvPr/>
          </p:nvPicPr>
          <p:blipFill>
            <a:blip r:embed="rId5"/>
            <a:stretch/>
          </p:blipFill>
          <p:spPr>
            <a:xfrm>
              <a:off x="3633840" y="2090880"/>
              <a:ext cx="1755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778200" y="2206800"/>
              <a:ext cx="147816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ствовали самореализации, самовыражению лич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Скругленный прямоугольник 18"/>
          <p:cNvGrpSpPr/>
          <p:nvPr/>
        </p:nvGrpSpPr>
        <p:grpSpPr>
          <a:xfrm>
            <a:off x="5492880" y="2090880"/>
            <a:ext cx="1682640" cy="1450800"/>
            <a:chOff x="5492880" y="2090880"/>
            <a:chExt cx="1682640" cy="1450800"/>
          </a:xfrm>
        </p:grpSpPr>
        <p:pic>
          <p:nvPicPr>
            <p:cNvPr id="121" name="Скругленный прямоугольник 18" descr=""/>
            <p:cNvPicPr/>
            <p:nvPr/>
          </p:nvPicPr>
          <p:blipFill>
            <a:blip r:embed="rId6"/>
            <a:stretch/>
          </p:blipFill>
          <p:spPr>
            <a:xfrm>
              <a:off x="5492880" y="2090880"/>
              <a:ext cx="168264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635800" y="2206800"/>
              <a:ext cx="1404720" cy="11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тересны де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Скругленный прямоугольник 21"/>
          <p:cNvGrpSpPr/>
          <p:nvPr/>
        </p:nvGrpSpPr>
        <p:grpSpPr>
          <a:xfrm>
            <a:off x="7351560" y="2090880"/>
            <a:ext cx="1683000" cy="1474560"/>
            <a:chOff x="7351560" y="2090880"/>
            <a:chExt cx="1683000" cy="1474560"/>
          </a:xfrm>
        </p:grpSpPr>
        <p:pic>
          <p:nvPicPr>
            <p:cNvPr id="124" name="Скругленный прямоугольник 21" descr=""/>
            <p:cNvPicPr/>
            <p:nvPr/>
          </p:nvPicPr>
          <p:blipFill>
            <a:blip r:embed="rId7"/>
            <a:stretch/>
          </p:blipFill>
          <p:spPr>
            <a:xfrm>
              <a:off x="7351560" y="2090880"/>
              <a:ext cx="168300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494480" y="2208240"/>
              <a:ext cx="1401840" cy="12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чески вписываются в современные образовательные систе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20" descr=""/>
          <p:cNvPicPr/>
          <p:nvPr/>
        </p:nvPicPr>
        <p:blipFill>
          <a:blip r:embed="rId8"/>
          <a:stretch/>
        </p:blipFill>
        <p:spPr>
          <a:xfrm rot="3874800">
            <a:off x="4168440" y="3801960"/>
            <a:ext cx="9082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Заголовок 1"/>
          <p:cNvGrpSpPr/>
          <p:nvPr/>
        </p:nvGrpSpPr>
        <p:grpSpPr>
          <a:xfrm>
            <a:off x="255600" y="0"/>
            <a:ext cx="8699400" cy="743040"/>
            <a:chOff x="255600" y="0"/>
            <a:chExt cx="8699400" cy="743040"/>
          </a:xfrm>
        </p:grpSpPr>
        <p:pic>
          <p:nvPicPr>
            <p:cNvPr id="12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55600" y="0"/>
              <a:ext cx="86994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20760" y="39600"/>
              <a:ext cx="85723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овременные образовательные технологии, используемые в ДО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18"/>
          <p:cNvSpPr/>
          <p:nvPr/>
        </p:nvSpPr>
        <p:spPr>
          <a:xfrm>
            <a:off x="1928880" y="1143000"/>
            <a:ext cx="1876320" cy="4474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технолог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авлено на выработку самостоятельных исследовательских ум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ановка проблемы, сбор и обработка информации, проведение экспериментов, анализ полученных результат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9"/>
          <p:cNvSpPr/>
          <p:nvPr/>
        </p:nvSpPr>
        <p:spPr>
          <a:xfrm>
            <a:off x="3857760" y="1143000"/>
            <a:ext cx="1643040" cy="350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не получает готовый ответ на поставленный вопр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пособам и алгоритму позна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2"/>
          <p:cNvSpPr/>
          <p:nvPr/>
        </p:nvSpPr>
        <p:spPr>
          <a:xfrm>
            <a:off x="7500960" y="1143000"/>
            <a:ext cx="1500120" cy="3257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личностно-ориентированный подход. Значительно возрастает интерес детей к деятельности.Возможность самообу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241880" y="2154240"/>
            <a:ext cx="2286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5572080" y="1143000"/>
            <a:ext cx="1873440" cy="44442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доровь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берега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хранение и укрепление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Гимнастика для гла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Дыхательн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Физмину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Психо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Игры на 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мелкой и крупной мото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Игры на основ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Times New Roman"/>
              </a:rPr>
              <a:t>кинезиолог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упраж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13"/>
          <p:cNvSpPr/>
          <p:nvPr/>
        </p:nvSpPr>
        <p:spPr>
          <a:xfrm rot="5400000">
            <a:off x="3795480" y="5491080"/>
            <a:ext cx="895320" cy="485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2071800" y="6286680"/>
            <a:ext cx="4660920" cy="5202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качества и эффективности образования в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2"/>
          <p:cNvSpPr/>
          <p:nvPr/>
        </p:nvSpPr>
        <p:spPr>
          <a:xfrm>
            <a:off x="142920" y="1143000"/>
            <a:ext cx="1714320" cy="4961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д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реса и 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сихических 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ГРЫ : дидактически,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ворческие игры и инсценировки, подвижные игры, игры-драматизации, сюжетно-роле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стольно-печатные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ловес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право 14"/>
          <p:cNvSpPr/>
          <p:nvPr/>
        </p:nvSpPr>
        <p:spPr>
          <a:xfrm rot="5400000">
            <a:off x="3795480" y="5491080"/>
            <a:ext cx="895320" cy="485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1" name="Заголовок 1"/>
          <p:cNvGrpSpPr/>
          <p:nvPr/>
        </p:nvGrpSpPr>
        <p:grpSpPr>
          <a:xfrm>
            <a:off x="390600" y="0"/>
            <a:ext cx="8356680" cy="701640"/>
            <a:chOff x="390600" y="0"/>
            <a:chExt cx="8356680" cy="701640"/>
          </a:xfrm>
        </p:grpSpPr>
        <p:pic>
          <p:nvPicPr>
            <p:cNvPr id="1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0600" y="0"/>
              <a:ext cx="8356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57200" y="44280"/>
              <a:ext cx="82296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едущая педагогическая иде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Заголовок 1"/>
          <p:cNvGrpSpPr/>
          <p:nvPr/>
        </p:nvGrpSpPr>
        <p:grpSpPr>
          <a:xfrm>
            <a:off x="1432080" y="1096920"/>
            <a:ext cx="3017520" cy="701640"/>
            <a:chOff x="1432080" y="1096920"/>
            <a:chExt cx="3017520" cy="701640"/>
          </a:xfrm>
        </p:grpSpPr>
        <p:pic>
          <p:nvPicPr>
            <p:cNvPr id="145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432080" y="1096920"/>
              <a:ext cx="30175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500120" y="1143000"/>
              <a:ext cx="2890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ебёнок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Заголовок 1"/>
          <p:cNvGrpSpPr/>
          <p:nvPr/>
        </p:nvGrpSpPr>
        <p:grpSpPr>
          <a:xfrm>
            <a:off x="506520" y="1884240"/>
            <a:ext cx="3017880" cy="1754280"/>
            <a:chOff x="506520" y="1884240"/>
            <a:chExt cx="3017880" cy="1754280"/>
          </a:xfrm>
        </p:grpSpPr>
        <p:pic>
          <p:nvPicPr>
            <p:cNvPr id="148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506520" y="1884240"/>
              <a:ext cx="30178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71680" y="1928880"/>
              <a:ext cx="289080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щу и нахожу, думаю и узнаю, тренируюсь и делаю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Заголовок 1"/>
          <p:cNvGrpSpPr/>
          <p:nvPr/>
        </p:nvGrpSpPr>
        <p:grpSpPr>
          <a:xfrm>
            <a:off x="4363920" y="1096920"/>
            <a:ext cx="3017880" cy="701640"/>
            <a:chOff x="4363920" y="1096920"/>
            <a:chExt cx="3017880" cy="701640"/>
          </a:xfrm>
        </p:grpSpPr>
        <p:pic>
          <p:nvPicPr>
            <p:cNvPr id="151" name="Заголовок 1" descr=""/>
            <p:cNvPicPr/>
            <p:nvPr/>
          </p:nvPicPr>
          <p:blipFill>
            <a:blip r:embed="rId5"/>
            <a:stretch/>
          </p:blipFill>
          <p:spPr>
            <a:xfrm>
              <a:off x="4363920" y="1096920"/>
              <a:ext cx="30178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429080" y="1143000"/>
              <a:ext cx="2890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едагог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Заголовок 1"/>
          <p:cNvGrpSpPr/>
          <p:nvPr/>
        </p:nvGrpSpPr>
        <p:grpSpPr>
          <a:xfrm>
            <a:off x="5364000" y="1884240"/>
            <a:ext cx="3017880" cy="1754280"/>
            <a:chOff x="5364000" y="1884240"/>
            <a:chExt cx="3017880" cy="1754280"/>
          </a:xfrm>
        </p:grpSpPr>
        <p:pic>
          <p:nvPicPr>
            <p:cNvPr id="154" name="Заголовок 1" descr=""/>
            <p:cNvPicPr/>
            <p:nvPr/>
          </p:nvPicPr>
          <p:blipFill>
            <a:blip r:embed="rId6"/>
            <a:stretch/>
          </p:blipFill>
          <p:spPr>
            <a:xfrm>
              <a:off x="5364000" y="1884240"/>
              <a:ext cx="30178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429160" y="1928880"/>
              <a:ext cx="289080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научить, а побудить, не оценить, а проанализировать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Стрелка вправо 14"/>
          <p:cNvSpPr/>
          <p:nvPr/>
        </p:nvSpPr>
        <p:spPr>
          <a:xfrm rot="2548800">
            <a:off x="1712520" y="3932280"/>
            <a:ext cx="125748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15"/>
          <p:cNvSpPr/>
          <p:nvPr/>
        </p:nvSpPr>
        <p:spPr>
          <a:xfrm rot="8028000">
            <a:off x="5915880" y="3936600"/>
            <a:ext cx="1219320" cy="4856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Заголовок 1"/>
          <p:cNvGrpSpPr/>
          <p:nvPr/>
        </p:nvGrpSpPr>
        <p:grpSpPr>
          <a:xfrm>
            <a:off x="426960" y="4632480"/>
            <a:ext cx="8326440" cy="2092320"/>
            <a:chOff x="426960" y="4632480"/>
            <a:chExt cx="8326440" cy="2092320"/>
          </a:xfrm>
        </p:grpSpPr>
        <p:pic>
          <p:nvPicPr>
            <p:cNvPr id="159" name="Заголовок 1" descr=""/>
            <p:cNvPicPr/>
            <p:nvPr/>
          </p:nvPicPr>
          <p:blipFill>
            <a:blip r:embed="rId7"/>
            <a:stretch/>
          </p:blipFill>
          <p:spPr>
            <a:xfrm>
              <a:off x="426960" y="4632480"/>
              <a:ext cx="832644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71680" y="4714920"/>
              <a:ext cx="797076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недрение игровых технологий в образовательный процесс будет способствовать п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вышению качества и эффективности образования в ДОУ,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ктивизирует речевые и познавательные процессы, позволит каждому ребёнку добиться успеха, в том числе детям с ОВЗ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2" name="Заголовок 1"/>
          <p:cNvGrpSpPr/>
          <p:nvPr/>
        </p:nvGrpSpPr>
        <p:grpSpPr>
          <a:xfrm>
            <a:off x="390600" y="0"/>
            <a:ext cx="8356680" cy="701640"/>
            <a:chOff x="390600" y="0"/>
            <a:chExt cx="8356680" cy="701640"/>
          </a:xfrm>
        </p:grpSpPr>
        <p:pic>
          <p:nvPicPr>
            <p:cNvPr id="16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0600" y="0"/>
              <a:ext cx="8356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" y="44280"/>
              <a:ext cx="82296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Цель и задачи педагогическ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Прямоугольник 4"/>
          <p:cNvGrpSpPr/>
          <p:nvPr/>
        </p:nvGrpSpPr>
        <p:grpSpPr>
          <a:xfrm>
            <a:off x="3638520" y="669960"/>
            <a:ext cx="2133720" cy="609480"/>
            <a:chOff x="3638520" y="669960"/>
            <a:chExt cx="2133720" cy="609480"/>
          </a:xfrm>
        </p:grpSpPr>
        <p:pic>
          <p:nvPicPr>
            <p:cNvPr id="166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638520" y="669960"/>
              <a:ext cx="21337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708360" y="765000"/>
              <a:ext cx="20001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Цель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Прямоугольник 5"/>
          <p:cNvGrpSpPr/>
          <p:nvPr/>
        </p:nvGrpSpPr>
        <p:grpSpPr>
          <a:xfrm>
            <a:off x="407880" y="1231920"/>
            <a:ext cx="8541000" cy="1262160"/>
            <a:chOff x="407880" y="1231920"/>
            <a:chExt cx="8541000" cy="1262160"/>
          </a:xfrm>
        </p:grpSpPr>
        <p:pic>
          <p:nvPicPr>
            <p:cNvPr id="169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07880" y="1231920"/>
              <a:ext cx="8541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68360" y="1268280"/>
              <a:ext cx="84247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Создание условий для профессионального роста педагогов в вопросах развития познавательно - речевой активности детей в контексте ФГОС Д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6"/>
          <p:cNvGrpSpPr/>
          <p:nvPr/>
        </p:nvGrpSpPr>
        <p:grpSpPr>
          <a:xfrm>
            <a:off x="3718080" y="2511360"/>
            <a:ext cx="1920600" cy="646200"/>
            <a:chOff x="3718080" y="2511360"/>
            <a:chExt cx="1920600" cy="646200"/>
          </a:xfrm>
        </p:grpSpPr>
        <p:pic>
          <p:nvPicPr>
            <p:cNvPr id="172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718080" y="2511360"/>
              <a:ext cx="1920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786120" y="257184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Задач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Прямоугольник 7"/>
          <p:cNvGrpSpPr/>
          <p:nvPr/>
        </p:nvGrpSpPr>
        <p:grpSpPr>
          <a:xfrm>
            <a:off x="262080" y="3535200"/>
            <a:ext cx="8680320" cy="2895840"/>
            <a:chOff x="262080" y="3535200"/>
            <a:chExt cx="8680320" cy="2895840"/>
          </a:xfrm>
        </p:grpSpPr>
        <p:pic>
          <p:nvPicPr>
            <p:cNvPr id="175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62080" y="3535200"/>
              <a:ext cx="868032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4000" y="3571920"/>
              <a:ext cx="853272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400"/>
                </a:spcBef>
                <a:buClr>
                  <a:srgbClr val="0000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400"/>
                </a:spcBef>
                <a:buClr>
                  <a:srgbClr val="0000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ыявить уровень профессиональной компетентности педагогов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400"/>
                </a:spcBef>
                <a:buClr>
                  <a:srgbClr val="0000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беспечить: методическое сопровождение и поддержку педагогов в повышении уровня их компетентности, поэтапное освоение участниками образовательного процесса игровыми технологиям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400"/>
                </a:spcBef>
                <a:buClr>
                  <a:srgbClr val="0000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вершенствовать РППС в МБДОУ, в соответствии с реализуемыми технологиям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400"/>
                </a:spcBef>
                <a:buClr>
                  <a:srgbClr val="0000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азработать методические рекомендации по развитию и педагогической поддержке исследовательской деятельности детей дошкольного возраста с опорой на принцип системной дифференциации в рамках инновационной площадки федерального уровня АНО ДПО «НИИ дошкольного образования «Воспитатели России» по направлению «Организация и развитие исследовательской деятельности в условиях ДОУ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irc_mi" descr="http://zaker.ru/foo/3/zelenyy_svetlyy_pyatna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Заголовок 1"/>
          <p:cNvSpPr/>
          <p:nvPr/>
        </p:nvSpPr>
        <p:spPr>
          <a:xfrm>
            <a:off x="457200" y="442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бъект 2"/>
          <p:cNvSpPr/>
          <p:nvPr/>
        </p:nvSpPr>
        <p:spPr>
          <a:xfrm>
            <a:off x="179280" y="907920"/>
            <a:ext cx="29527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анали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2"/>
          <a:stretch/>
        </p:blipFill>
        <p:spPr>
          <a:xfrm>
            <a:off x="3529080" y="901800"/>
            <a:ext cx="54687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182" name="Заголовок 1"/>
          <p:cNvGrpSpPr/>
          <p:nvPr/>
        </p:nvGrpSpPr>
        <p:grpSpPr>
          <a:xfrm>
            <a:off x="433440" y="6480"/>
            <a:ext cx="8393040" cy="931680"/>
            <a:chOff x="433440" y="6480"/>
            <a:chExt cx="8393040" cy="931680"/>
          </a:xfrm>
        </p:grpSpPr>
        <p:pic>
          <p:nvPicPr>
            <p:cNvPr id="183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433440" y="6480"/>
              <a:ext cx="839304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00040" y="142920"/>
              <a:ext cx="8229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ятельностный аспект личного вклада педагога в развитие образ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Прямоугольник 9"/>
          <p:cNvGrpSpPr/>
          <p:nvPr/>
        </p:nvGrpSpPr>
        <p:grpSpPr>
          <a:xfrm>
            <a:off x="208080" y="3108240"/>
            <a:ext cx="8691480" cy="3463920"/>
            <a:chOff x="208080" y="3108240"/>
            <a:chExt cx="8691480" cy="3463920"/>
          </a:xfrm>
        </p:grpSpPr>
        <p:pic>
          <p:nvPicPr>
            <p:cNvPr id="186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208080" y="3108240"/>
              <a:ext cx="8691480" cy="34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85840" y="3143160"/>
              <a:ext cx="8532720" cy="33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ы работы с педагог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советы, консультации, семина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крытые просмотры и взаимопосе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чие и творческие групп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курсы, смот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тер-классы (педагог-педагогу, педагог-родителям, педагог и дети – родителям, педагог и дети - педагогам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Школа начинающего педагог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ические чт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естиваль педагогических ид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ический Олимп (презентация по программе саморазвития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ализ материалов инновационной площадки, обсуждение и размещение в</a:t>
              </a: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тевом сообществе  ИП (федерального уровня) своего опыт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SS</dc:creator>
  <dc:description/>
  <dc:language>en-US</dc:language>
  <cp:lastModifiedBy>BoSS</cp:lastModifiedBy>
  <dcterms:modified xsi:type="dcterms:W3CDTF">2022-03-09T09:21:25Z</dcterms:modified>
  <cp:revision>830</cp:revision>
  <dc:subject/>
  <dc:title>Слайд 1</dc:title>
</cp:coreProperties>
</file>